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A6A2-88D6-4716-92EF-7D3EFDC8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C149-9073-4CA1-81E4-D6911B97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E441-93C1-4748-9CE7-27693980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AD7-373E-4E76-87E1-D8B4F798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772-5028-47FC-8DC1-A324E2F1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4C6-0F4F-45E5-A3C6-AE6F6BFD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F0A-0B04-4625-8AFC-1B4DC3F5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47B-A0DE-4088-B002-FD1679AF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97B-9900-457E-9471-0419A7B2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6A9-D962-4A8D-8B1D-A3229B38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7A40-102C-4B0D-B367-D7A47065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74CA-690E-4923-BEA2-5AF5729E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7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148D-BED5-460C-A020-DE97366F8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7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-360"/>
            <a:ext cx="32414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oor Richard"/>
              </a:rPr>
              <a:t>Mi presento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sono CRISTINA BROGLIA, una ragazza semplice e sol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8749" t="1969" r="2187" b="1969"/>
          <a:stretch/>
        </p:blipFill>
        <p:spPr>
          <a:xfrm>
            <a:off x="3995640" y="549360"/>
            <a:ext cx="4805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7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Infine posso dire che nella mia vita, oltre alla mia famiglia, alla quale do un immenso valore, sono sempre presenti e molto importanti le mie amiche; è anche grazie a loro che la mia esistenza si arricchisce di giorno in giorn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43280" y="40766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7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4076640"/>
            <a:ext cx="822960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Sono nata il 28 Giugno 1989 a Rho, in provincia di Milano. Ora abito con la mia famiglia a Terrazzano, una piccolissima frazione di Rh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2084" r="0" b="6948"/>
          <a:stretch/>
        </p:blipFill>
        <p:spPr>
          <a:xfrm>
            <a:off x="2771640" y="260280"/>
            <a:ext cx="38671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7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Poor Richard"/>
              </a:rPr>
              <a:t>La mia famiglia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Mio padre Luciano, mia madre Marianna e mio fratello maggiore Davi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4206" t="17421" r="12619" b="23227"/>
          <a:stretch/>
        </p:blipFill>
        <p:spPr>
          <a:xfrm>
            <a:off x="5003640" y="2565360"/>
            <a:ext cx="3699000" cy="3821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13678" t="0" r="19149" b="10369"/>
          <a:stretch/>
        </p:blipFill>
        <p:spPr>
          <a:xfrm>
            <a:off x="468360" y="2565360"/>
            <a:ext cx="4032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7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884" t="23068" r="16148" b="15379"/>
          <a:stretch/>
        </p:blipFill>
        <p:spPr>
          <a:xfrm>
            <a:off x="4356000" y="2133720"/>
            <a:ext cx="4537080" cy="2735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69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Adoro tutti gli </a:t>
            </a:r>
            <a:r>
              <a:rPr b="1" lang="en-US" sz="4000" spc="-1" strike="noStrike">
                <a:solidFill>
                  <a:srgbClr val="000000"/>
                </a:solidFill>
                <a:latin typeface="Poor Richard"/>
              </a:rPr>
              <a:t>animali</a:t>
            </a: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 ma soprattutto cani e gatti. Ho avuto infatti due cani e possiedo tuttora una gat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23180" t="14557" r="11590" b="24262"/>
          <a:stretch/>
        </p:blipFill>
        <p:spPr>
          <a:xfrm>
            <a:off x="395280" y="1773360"/>
            <a:ext cx="2087640" cy="234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3672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7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252720" y="189000"/>
            <a:ext cx="9396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Poor Richard"/>
              </a:rPr>
              <a:t>Le mie passion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Poor Richard"/>
              </a:rPr>
              <a:t>Mi piace molto viaggiare e conoscere nuovi “mondi”; unisco infatti la mia passione per i viaggi con quella della fotografia che rende unico ogni istante ed ogni luogo da me visita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40555" r="0" b="9843"/>
          <a:stretch/>
        </p:blipFill>
        <p:spPr>
          <a:xfrm>
            <a:off x="2484360" y="3429000"/>
            <a:ext cx="41767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7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oor Richard"/>
              </a:rPr>
              <a:t>I miei studi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Non ho un ricordo felicissimo degli anni relativi alla scuola materna, in quanto, essendo molto timida, ho avuto non poche difficoltà a relazionarmi con i miei compagn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47512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7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4000" y="386028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Iniziando a frequentare le scuole elementari le cose sono migliorate sempre più e mi sono circondata di amic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6815" t="0" r="3408" b="13340"/>
          <a:stretch/>
        </p:blipFill>
        <p:spPr>
          <a:xfrm>
            <a:off x="1835280" y="549360"/>
            <a:ext cx="547200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7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Terminata la scuola media ho iniziato ad accorgermi della mia passione verso il ramo dell’educazione. Infatti, durante le vacanze estive, ho frequentato l’oratorio feriale come animatrice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79640" y="3352680"/>
            <a:ext cx="496872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7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3357360"/>
            <a:ext cx="8229600" cy="32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Dopo aver conseguito il diploma presso il liceo linguistico “G. Falcone e P. Borsellino” mi sono iscritta alla facoltà di Scienze della formazione primaria, dove studio tutt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4616" r="0" b="7687"/>
          <a:stretch/>
        </p:blipFill>
        <p:spPr>
          <a:xfrm>
            <a:off x="2268360" y="189000"/>
            <a:ext cx="45370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13:40:53Z</dcterms:created>
  <dc:creator>STC</dc:creator>
  <dc:description/>
  <dc:language>en-US</dc:language>
  <cp:lastModifiedBy>STC</cp:lastModifiedBy>
  <dcterms:modified xsi:type="dcterms:W3CDTF">2011-06-09T17:11:25Z</dcterms:modified>
  <cp:revision>6</cp:revision>
  <dc:subject/>
  <dc:title>Mi presento… mi chiamo Cristina Broglia, il mio numero di matricola è 3808033. Vivo a Terrazzano di Rho, in provincia di Milano.</dc:title>
</cp:coreProperties>
</file>